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png" ContentType="image/png"/>
  <Override PartName="/ppt/media/image64.jpeg" ContentType="image/jpeg"/>
  <Override PartName="/ppt/media/image34.jpeg" ContentType="image/jpeg"/>
  <Override PartName="/ppt/media/image56.jpeg" ContentType="image/jpeg"/>
  <Override PartName="/ppt/media/image32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.jpeg" ContentType="image/jpeg"/>
  <Override PartName="/ppt/media/image70.jpeg" ContentType="image/jpeg"/>
  <Override PartName="/ppt/media/image79.png" ContentType="image/png"/>
  <Override PartName="/ppt/media/image26.jpeg" ContentType="image/jpeg"/>
  <Override PartName="/ppt/media/image42.png" ContentType="image/png"/>
  <Override PartName="/ppt/media/image76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2.jpeg" ContentType="image/jpeg"/>
  <Override PartName="/ppt/media/image67.jpeg" ContentType="image/jpeg"/>
  <Override PartName="/ppt/media/image82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6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E07-19C9-4A8F-B146-328B11D3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290-E876-4D8B-AEE9-FA3DCADE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372-02F4-42CC-88DA-EA06A89F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919-12D5-436F-B9CA-E795EA94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6184E-FDD2-4029-9D54-DF29840E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70B2F-826E-4E17-AD35-7E43AB21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F8BC1-3E73-4027-9F37-ABBB8951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326BA-388F-4640-9EBA-99356EFE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66D68-A23E-4452-96CB-236CD534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CF21E-64A9-45E2-AE26-558AF1E0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5959F-164A-4A64-8272-F51D4195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3A6-4ACD-417E-A36E-3559CD1E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C49B0-8AC6-44FE-814A-13CCFE0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F3469-0444-4CD2-8925-03F55FC6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27320-0EAF-46C9-8D8E-C2C34E34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01193-E1F5-4918-BEA8-B61B2118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BD325-B9FD-4126-98EF-AEBA5A96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1D1-E792-4A3C-86C2-84D66CD3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E2A-640A-42A2-A280-8A062885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F8D-790D-4E52-824E-626E8EB4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38A-1AEC-46F5-A491-3AB5CEE0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4F9-783C-40EB-8F59-2E9A68F9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91C-247F-4234-8525-8868D955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E5F-C026-40C0-98E6-AC27722F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8AEE-4556-470A-BA73-352D7F4C6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3B92-537D-48EA-AC79-F8C660EAC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loca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Joint In The 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of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rts/ trauma 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t &lt; 30 immobilize for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30 less redislocation rate immobilize 1 week to decrease joint stiff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pendular ROM excercizes decrease risk of froze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referral 1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bow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 fx’s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 to examine for neurovasc in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painful sometimes harder to reduce tha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fall on outstretched h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chial artery injury in   up to 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130560" y="2031840"/>
            <a:ext cx="50990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592308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duc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b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inate fore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o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524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-838080" y="-358128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-1685880" y="160020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d Techniq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066680" y="1362240"/>
            <a:ext cx="5581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54864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p Disloc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 acetabular fx( may only be seen on C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gent reduction- to decrease risk of AV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versus prosthe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tic mech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3149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828800" y="503280"/>
            <a:ext cx="54864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a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209680" y="2682720"/>
            <a:ext cx="46483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1530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Hip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usually easier to red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prone on stretcher leg hanging off end hip and knee flex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downward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supine flex knee hip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0600" y="1881360"/>
            <a:ext cx="58867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 pelvi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46958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 .put your foot on stret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under pts calf( rather than standing over p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h down on pts ankle up from behind knee using your knee as a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ssistant or back board straps to stabilize 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hip dislocation can go home after reduction( need to avoid addu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Hip needs ct to r/o acetabular f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force mechanism may need further w/u eval admit for concommitant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te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ades of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rls&gt; boys. famil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 swinging twisting of kn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ce/gymna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al most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is a sesamoid bone imbedded in quadriceps te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6095880" cy="66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obv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held in 20-30 degrees 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palpable later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2190600" y="1909800"/>
            <a:ext cx="573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painful/ pts anx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gesia/se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ray not needed prior to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upine hips flexed to relax quadrice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l pressure to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171880" y="1371600"/>
            <a:ext cx="52956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immobilizer or patellar stabilization b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 up 1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hab quad strength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letes return to sports 4-6 wee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15 years old high rate of recur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 to 6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dislo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e dislocation rare-but devastating/potentially limb threa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 grossly swollen knee clinically obvious, often decreased perfusion low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pontaneously reduced must have high index of suspi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case of severe bicruciate lig injury with grossly unstabl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ce swelling/hemat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505320" y="3067200"/>
            <a:ext cx="44812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70280" y="2000160"/>
            <a:ext cx="43686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873520" y="1523880"/>
            <a:ext cx="407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ion of tibial displac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lation of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&gt;Posterior&gt;med or L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VA ( &gt;6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 acci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liteal artery ( 10-30%)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peroneal nerve(20-3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 sensation over the dorsum of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 nerv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sensation over plantar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tment syndromes/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liteal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191120" y="1828800"/>
            <a:ext cx="2495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addle B study j orthotrauma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 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/3 reduced spontane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 injury : ACL or PCL84-8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L/PCL 7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L 44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L6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liteal injury in 9 knees ( 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neal nerve 9 (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nee Re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stant provide sl longitudinal 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tor uses one hand on tibia one on femur to guide it back into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splint 15 degrees 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io/Doppler/ Ankle-ankle ind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m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al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6350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in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erior dislocation arm slightly abdu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ly rotated .Pt resists all movement. Loss of  normal rounded  appear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23880" y="2908440"/>
            <a:ext cx="64962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 abducted/ 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9560" y="1600200"/>
            <a:ext cx="3282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24080" y="2481120"/>
            <a:ext cx="46483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54040" y="1206360"/>
            <a:ext cx="623592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view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 dislocations require prompt and effective care in the Emergency Depar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everal techniques for shoulder redu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Hip dislocations/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ement and complications of kne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bow dislocations and techniques for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190440" y="-1319040"/>
            <a:ext cx="9524880" cy="94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common 3-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be difficult to diagnose-may miss on up to 50% standard ap view as findings sub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ly  assoc with greater tuberosity/surgical neck fx’s can cause a reverse hills sachs deform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plain X rays indeterminate can use 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also aids ortho as to who needs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% articular surface involved changes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362320" y="1793880"/>
            <a:ext cx="57909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 post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4483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ness posteriorly. Somewhat squared off shoulder. Marked decreased 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ful radiographic sig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bulb sign-humeral head internally rotated. tuberosity no longer project laterally( circular look to H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m sign- refers to distance  from medial aspect of humeral head to ant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uperimposed or widened joint space &gt;6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ct po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 line 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arallel lines of cortical bone  are seen on medial cortex of HH,one line is medial cortex of HH other line is “trough of impaction fx  ( reverse hill  sachs) anterior articular  surface of H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bu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727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5118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% percent of all major joint disloca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erior most common 95-9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erior  2-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rior ( luxatio erecta-which means “ to place upward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tomy: shoulder is an inherently unstable joi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enoid is shallow-allows for wide range of mov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brum fibrocartilaginous structure surrounds glenoid inserts into edge of joint caps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ic sh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iz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( alchoholic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l rotation/adduction/flex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53596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30880" y="990720"/>
            <a:ext cx="358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44452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233960" y="1752480"/>
            <a:ext cx="38178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/ 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46240" y="2044800"/>
            <a:ext cx="45975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0400" y="1749600"/>
            <a:ext cx="51339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.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 axial loading foreceful hyperabd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t falls grasping object above their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m locked in abduction often fore arm resting on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0% of pts have some neurologic dys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14600" y="177156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819440" y="1143000"/>
            <a:ext cx="550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roglenohumeral ligament :anterior/inferior portion of the capsule..thicker than the others and provides strongest  support again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tator cuff muscles provide additional suppor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capularis lies an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aspinatus/infraspinatus/Teres mi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ITS) lie posterior “pull” humeral head into gleno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" y="858960"/>
            <a:ext cx="81471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vascular exam-check distal pulses/axillary nerve function:some dysfunction in 42% of cases( almost all recov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t check deltoid teres minor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heck sen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 security guard/ arm forces patch location for axil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49640" y="-47520"/>
            <a:ext cx="464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xillary nerve pals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rsal hand  sensation web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381400" y="1057320"/>
            <a:ext cx="4381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895480" y="2416320"/>
            <a:ext cx="4915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phic 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es fractures/confirms dislocation/confirms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ly important fx’s can occur up to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 factors : age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im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umatic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ll 3 absent can safely skip prereduction xr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96% negative prediction valu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tine fil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pular  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29000" y="1143000"/>
            <a:ext cx="228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68560" y="1143000"/>
            <a:ext cx="73659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am directed parallel to scapular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formed by body/spine and the coracoid process. Glenoid fills in center of Y( normally obscured by humeral head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dislocation Humeral head appears medial to gle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63720" y="1295280"/>
            <a:ext cx="38563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5148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36673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with arm abducted plate o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8007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486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54100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nerve most commonly injured nerve in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s inferior to humeral h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ervates deltoid, teres minor—Shoulder badge”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4119480"/>
            <a:ext cx="33339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d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 Sachs- cortical depression of humeral head from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nkart lesions- Glenoid labrum dis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e frag/avulsion may be s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er tuberosity fx’s– up to 1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3242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nkart le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3733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352680" y="1066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507996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 Know its 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Wh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ed consent risk minimal. rare incidence of fractures. axillary artery/nerve injury rare but may occur(esp with more forceful technique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 needed   n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dsheet/ as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-15lb weight for stim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cious sedation /Pain mana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ors preferred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e to complete procedural sed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ntanyl/versed/ms/ketamine etomidate/propof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articular inje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 avoids complications of sedation/pts with significant comorbid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ml syri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ject 20ml  1%lidocaine.lateral approach best. Identify acromion process over lat aspect of shoulder 1cm inf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8 or  20guage direct needle medially and inferiorly to depth of2.5 cm/3.0 cm( CAN USE US GUID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aarticular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452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Techn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clear evidence supports one method over another….clinical pre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 Shoulder Disloc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least Traumatic Fir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 mani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prone on stretcher with arm hanging, or sitting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tate inferolateral aspect of shoulder upward towards mid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 modify by pulling arm down by assistant or we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362320" y="1076400"/>
            <a:ext cx="4572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ting scap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361620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ll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use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3194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nnepin technique” 80-90 % su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supine on stretc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elbow at pts side flexed 9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OWLY externally rotate shoul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pt try to relax and let arm fall to s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achieved by overcoming spasm of internal rot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pain or spasm occurs stop allow pt to rel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reduction occurs at 70-11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add milch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is slow gradual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493380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prone with hanging weight  10-15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-20 minutes  . Works by fatigue of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use sand bag/ bucket/ wrist brace with attatched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441680" y="1523880"/>
            <a:ext cx="352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wrapped around pt under axilla one practitioner pulls elbow wrist ( can use sheet wrapped around your waist and pts flexed elbow allowing you to use body wei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 provides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666880" y="1824120"/>
            <a:ext cx="5257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around wa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48373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ernate traction counter/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601992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vertical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030640" y="1676520"/>
            <a:ext cx="2932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529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nningh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733920" y="1681200"/>
            <a:ext cx="4647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chniques to avo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ppocra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 in axilla with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 in line traction uses chest as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above have higher rate for fracture /injury  and are out of fav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895480" y="1066680"/>
            <a:ext cx="3619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766960" y="1828800"/>
            <a:ext cx="3610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erior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be difficult to diagn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common less than 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/trauma alchohol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 dislocation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d reduction only if articular surface defect less than 20% ( reverse hill sach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uration of dislocation less than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need OR closed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do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itting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3341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-  maj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glenoid 3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oracoid 70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infraclavi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: usually caused by a blow or force to abducted externally rotated and extended arm… Think blocking a basketball sh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fall on outstretched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traction in line with abducted humerus.usually successful unless buttonhole ( humeral head trapped in tear of inferior joint capsu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550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ki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in Green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lies on unaffected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 on affected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sh on humeral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incidence of brachial plexus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locked around ipsalateral knee in a seated position leans back extends 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sing when pain is too much then continuing until reduction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ow bird –pt in chair elbow fle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 applies downward traction at elb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foot in 4” stockinette int /ext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ble to reduce 5-10% interposition of biceps tendon ,joint capsule, or fracture fragments within the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ve and vascular injury r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llary nerve –more often in elderly. managed conservatively after 4 weeks emg nerve study if surgery best between3-6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chial plexsus radial/ulnar musculoskelata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artery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re. More common in chronic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 cases reported. 90% in pts over 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to joint capsule adhesions, calcifications, loss of elast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ous injury rare. Usually thromb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 reduction shoulder is immob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ortho 1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common complication is recurrent  dis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-90% pt &lt; 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10%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obilization-adduction internal rotation, collar cuff, sling swa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nt studies (cadaver) recurrent dislocations slightly less if shoulder immobilized in 10 degrees 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pedic repair- irreducible dislocation, significant fractures/bankhart fx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ab may reduce rate of reocc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week 12 limited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16 full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3336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457848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2:34:36Z</dcterms:created>
  <dc:creator>william</dc:creator>
  <dc:description/>
  <dc:language>en-US</dc:language>
  <cp:lastModifiedBy>william</cp:lastModifiedBy>
  <dcterms:modified xsi:type="dcterms:W3CDTF">2009-06-04T05:47:19Z</dcterms:modified>
  <cp:revision>29</cp:revision>
  <dc:subject/>
  <dc:title>Dislocations </dc:title>
</cp:coreProperties>
</file>